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6.wmf" ContentType="image/x-wmf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CC9-91E5-4582-88D6-16579A59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6DE-DB99-47F2-A8B6-64103F8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CA1-3DB9-4195-8C89-13E8FB1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0C3-A643-458E-BFC3-05C569CA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36C-1FE7-484E-94FB-A5A87C03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EA3-D415-4756-BC39-E847C79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3C2-F5E1-4DC4-A91D-CD323D6E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FBD-549B-4C3A-BBD7-B7D8C98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F6C-BC9F-4DBD-AADD-A7834D7E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6B6-C23F-4167-9372-A999BA0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D33-A0B5-4123-ADAD-A205CCC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2E1-E3C8-4219-A030-57A0418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6773-4463-4B99-A144-1CBB5C71A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1497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147636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992160" cy="11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2160360" cy="98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278136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ÁLISIS DE LOS RESULTADOS DE p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78200" y="5489640"/>
            <a:ext cx="4465800" cy="1374840"/>
          </a:xfrm>
          <a:prstGeom prst="rect">
            <a:avLst/>
          </a:prstGeom>
          <a:gradFill rotWithShape="0">
            <a:gsLst>
              <a:gs pos="0">
                <a:srgbClr val="d7d9db">
                  <a:alpha val="38039"/>
                </a:srgbClr>
              </a:gs>
              <a:gs pos="100000">
                <a:srgbClr val="63646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Dra. Mabel Váz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FCAyF – UN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evazquez@agro.unlp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7640" y="1700280"/>
            <a:ext cx="281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IN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H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(suelo: KCl 1N 1: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895480"/>
            <a:ext cx="182880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886200"/>
            <a:ext cx="60984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87692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876920"/>
            <a:ext cx="1638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Cl 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27672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36576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6019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5943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 Log (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ción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86064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49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4240" y="414036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278136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436572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3645000"/>
            <a:ext cx="6094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3933720"/>
            <a:ext cx="60948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5950080"/>
            <a:ext cx="609840" cy="459720"/>
          </a:xfrm>
          <a:prstGeom prst="rect">
            <a:avLst/>
          </a:prstGeom>
          <a:solidFill>
            <a:srgbClr val="e4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407664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1341360"/>
            <a:ext cx="8028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mpo de agitado y de re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2997360"/>
            <a:ext cx="460836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414972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AGITAR 3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DEJAR REPOSAR 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35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404640"/>
            <a:ext cx="85327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a de hacer la m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itación (sí o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bicación del electro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313000"/>
            <a:ext cx="7632720" cy="45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o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ntro de la suspensión 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rca del suelo deca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minuye el p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o siemp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+ disociado de la superficie de los col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ga del suelo incide en la movilidad del K y Cl del electrodo de calo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4221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140360" cy="23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4508640"/>
            <a:ext cx="4140360" cy="2349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2276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003640" y="2205000"/>
            <a:ext cx="414036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003640" y="4508640"/>
            <a:ext cx="414036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4292640"/>
            <a:ext cx="9144000" cy="169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 MUESTAS DE pH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86900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341360"/>
            <a:ext cx="9144000" cy="169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 MUESTAS DE pH Á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VIMIENTO &lt; DECANTADO SIN AGITACIÓN &lt; SOBRENADANTE SIN AG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1916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enido de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agu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ambient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l suelo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determinaciones húmedas o suelo calcár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2421000"/>
          <a:ext cx="8229600" cy="3909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5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en volu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bturación de la porosidad del electrodo ind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54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electrodos de vidrio deben mantenerse inmersos en la solución indicada por el fabr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caso que se seque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umergir 5 min en HCL 0,1M y luego NaOH 0,1 M y finalmente HCl 0,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2852280"/>
            <a:ext cx="8686800" cy="370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ectrodo obtu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alores altos de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alidad del electr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 más lento que en KCl ó CaCl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&gt; a &gt; diferencia de pH entre muestras consec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os con  carbonatos o encalados, o ciertos contami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in agitación + inestable que con ag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96040" cy="342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d9db">
                  <a:alpha val="52156"/>
                </a:srgbClr>
              </a:gs>
              <a:gs pos="100000">
                <a:srgbClr val="636464">
                  <a:alpha val="5137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estabilidad de l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ifras signific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todos los dígit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ramente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ól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último puede ser dudo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716280"/>
            <a:ext cx="8569080" cy="1381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mayor parte de los potenciómetros  estas cifras implican 2 dec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ndo el 2º decimal dud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2781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INSA 2009/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0" r="0" b="50746"/>
          <a:stretch/>
        </p:blipFill>
        <p:spPr>
          <a:xfrm>
            <a:off x="179280" y="425520"/>
            <a:ext cx="8675640" cy="6432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2360" y="404640"/>
            <a:ext cx="6624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INSA 2009 Muestr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34936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8360" y="393372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36000" y="43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homas G.W </a:t>
            </a: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pH del suelo es probablemente la medida informativa más simple que puede ser hecha para determinar las características del 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51960" y="573408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SSA Book Series 5, Chemical Methods, Bhigam J.M., 199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404640"/>
          <a:ext cx="9144000" cy="6521760"/>
        </p:xfrm>
        <a:graphic>
          <a:graphicData uri="http://schemas.openxmlformats.org/drawingml/2006/table">
            <a:tbl>
              <a:tblPr/>
              <a:tblGrid>
                <a:gridCol w="1400040"/>
                <a:gridCol w="2716200"/>
                <a:gridCol w="502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p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Calif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Efectos espe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&lt; 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xtremada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xicidad de Al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, F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, Mn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2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 e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scasa actividad microb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6 – 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uy fuert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Posible toxicidad por Al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1 – 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uert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xceso: Co, Cu, Fe, Mn, Z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ficiencia: Ca, K, N, Mg, Mo, P,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uelos sin CaC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ctividad bacteriana es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6 – 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oderada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Intervalo adecuado para la mayoría de los cul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1 – 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Levemente ác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áxima disponibilidad de nut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6 – 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ínimos efectos tóx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7,4 – 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edianamente bá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uelos gralmente con CaC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7,9 – 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Bá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isminuye la disponibilidad de P y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ficiencia creciente de Co, Cu, Fe, Mn, Z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8,5 – 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Ligeramente 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di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9,1 – 10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di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&gt; 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uertemente alcal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xicidad s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ovilidad de P como Na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PO</a:t>
                      </a:r>
                      <a:r>
                        <a:rPr b="1" lang="es-E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ctividad microbiana es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icronutrientes poco disponibles excepto 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84360" y="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4160" y="-72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eneberger, P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ET AL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2708280"/>
            <a:ext cx="676764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0,5 UNIDADES DE pH CAMBIAN LA CAL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 Y DIAGNÓSTICO AGRON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1100160"/>
          <a:ext cx="8229600" cy="5757840"/>
        </p:xfrm>
        <a:graphic>
          <a:graphicData uri="http://schemas.openxmlformats.org/drawingml/2006/table">
            <a:tbl>
              <a:tblPr/>
              <a:tblGrid>
                <a:gridCol w="3962160"/>
                <a:gridCol w="1524240"/>
                <a:gridCol w="2743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Espe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Ópt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olerancia para rendimiento satisfac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falfa (Medicago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5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lgodón (Gossypium hirsut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2-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8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rroz (Oryza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Avena (Avena sativ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aña de azúcar (Saccarum officinar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5-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ebada (Hordeum vulga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5-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Centeno (Secale cerea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0-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Girasol (Helianthus ann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aiz (Zea m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0-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ja (Glycine m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4,5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orgo (Soghum bicol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5,5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ébol blanco (Trifolium repe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ébol rojo (Trifolium praten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Trigo (Triticum s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6,0-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5,8-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5805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Z = (X1/2 – X ref)/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5661000"/>
            <a:ext cx="30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Z&lt; 2 satisfa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2 &lt; Z &lt; 3 cuest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Z &gt; 3 no satifa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604800"/>
            <a:ext cx="7274160" cy="502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476280"/>
            <a:ext cx="61200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ÁMETRO 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2421000"/>
            <a:ext cx="648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221000"/>
            <a:ext cx="648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48776" r="0" b="0"/>
          <a:stretch/>
        </p:blipFill>
        <p:spPr>
          <a:xfrm>
            <a:off x="0" y="792000"/>
            <a:ext cx="9144000" cy="6066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92360" y="404640"/>
            <a:ext cx="6840360" cy="147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INSA 2010 Muestr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637000"/>
            <a:ext cx="28908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537372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8360" y="57340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3716280"/>
            <a:ext cx="28908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378936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716280"/>
            <a:ext cx="2887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5300640"/>
            <a:ext cx="289080" cy="3589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229360"/>
            <a:ext cx="288720" cy="3585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7280" y="4653000"/>
            <a:ext cx="7207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3284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,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3600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4,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5,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76280"/>
            <a:ext cx="288720" cy="3589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1000"/>
            <a:ext cx="19796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tisfac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6040" y="898560"/>
            <a:ext cx="7816680" cy="567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63640" y="765000"/>
            <a:ext cx="61200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ÁMETRO 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2708280"/>
            <a:ext cx="72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4941720"/>
            <a:ext cx="72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02 – 6,00 – 5,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0" y="508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ECISIÓ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petibilidad de un resul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852640"/>
          <a:ext cx="8229600" cy="2264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VÍO STAND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11280" y="2349360"/>
            <a:ext cx="8064360" cy="3416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 LLAMATIVAMENTE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ESTAREMOS ENVIANDO RESULTADOS REPETIDOS EN NUESTROS LABORATORIOS HASTA QUE SE PAREZC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BE EVALUARSE A CIEGAS EN RONDAS DISTI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TOCOLO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usados en la 2º ro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AMIZADO DE LA MUEST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2 mm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(25 laborato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 mm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0,5 mm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/tamizar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5805360"/>
            <a:ext cx="63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Rojo SAM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º entre paréntesis: Nº de labo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ECADO DE LA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Al aire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11) (48 h ó hasta que pueda triturarse, variable de acuerdo a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40ºC (12)(12 h, 15 h, 18 h, peso constante, 24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25-30ºC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35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&lt; 50ºC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05ºC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SAMLA</a:t>
            </a:r>
            <a:br>
              <a:rPr sz="40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al aire o estufa circulación forzada 20-35ºC (sin ti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91440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RAM 295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40ºC +/- 0,5ºC hasta que implementos no se adhi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o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apa &lt; 2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12h generalmente da contenidos &lt;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916280"/>
            <a:ext cx="8136000" cy="382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REP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AMLA – I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69228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TERMINACIÓN POTENCIOMÉ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421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mide la diferencia de potencial eléctrico entre 2 electrodos de una suspensión suelo-líquido en un circuito eléc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21000"/>
            <a:ext cx="442764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Electrodo de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(Agº/AgCl ó calomel (Hgº-Hg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/K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221000"/>
            <a:ext cx="2808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Electrodo ind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(vidrio, membrana líqui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membrana sól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Con HCl en su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843280" y="3716280"/>
            <a:ext cx="4334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716280"/>
            <a:ext cx="28908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3924000" y="5589360"/>
            <a:ext cx="2374920" cy="647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rcuito potenci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060640"/>
            <a:ext cx="6588000" cy="2425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H+ de la suspensión de suelo se intercambia  con el del electrodo indicador a través de una punta po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ÍQU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26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AGUA (to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ti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mi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rad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ion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stilada y her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idesti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56610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AMLA agua dest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CIÓN SUELO/SOLUCIÓN PESO MU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1/2,5 Peso/Volumen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(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5/15 Volumen/Volume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42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SO SUELO: desde 4 g hasta 3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941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AMLA: 12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VASE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SOS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IEMPO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2333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0,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30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, 40 s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1, 2-3, 5, 3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ada 20 min, a intervalos, 1 min cada 3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306864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RMA DE AG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nual con varilla de vid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rbital 180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g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lti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ai-ven 180 r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frasco tapado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869000"/>
            <a:ext cx="76327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AMLA NO ESPECI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357336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2349360"/>
            <a:ext cx="3384360" cy="2552040"/>
          </a:xfrm>
          <a:prstGeom prst="rect">
            <a:avLst/>
          </a:prstGeom>
          <a:solidFill>
            <a:srgbClr val="d7d9d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DO CON VA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256600" cy="6193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87640" y="1557360"/>
            <a:ext cx="3384720" cy="2552040"/>
          </a:xfrm>
          <a:prstGeom prst="rect">
            <a:avLst/>
          </a:prstGeom>
          <a:solidFill>
            <a:srgbClr val="d7d9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DOR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8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IEMPO DE REP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3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; + de 2; 2; 3; 4; +1 y – 12 h; &gt;30 min &lt; 2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221000"/>
            <a:ext cx="8302680" cy="2303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, 7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 y 7 ó 7 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rados o prepa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RMA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981000"/>
            <a:ext cx="8445240" cy="5300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mediatamente de agitar en el sobrenadante en el 1/2 del vaso y agit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 agitar dentro del deca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 agitació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uave y electrodo a 1,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 agitación y electrodo en el fondo del v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itar 1º y luego con electrodo dentro de decantado sin ag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2565360"/>
            <a:ext cx="712944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AMLA NO ESPECIFICA CÓMO AGITAR PREVIAMENTE Y DURANTE LA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1800" cy="6211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843280" y="1341360"/>
            <a:ext cx="3384360" cy="303948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CON AGITADOR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0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27880" cy="624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042920" y="836640"/>
            <a:ext cx="3384720" cy="303948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GITACIÓN PREVIA CON VA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860640"/>
            <a:ext cx="4681440" cy="255204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Y MEDICIÓN CON AGITACIÓN MAN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83860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AM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93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12 g de suelo (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56000" y="2276640"/>
            <a:ext cx="1944720" cy="15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vaso 5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03280" y="4149720"/>
            <a:ext cx="57636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77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0 ml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55640" y="4005000"/>
            <a:ext cx="1655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2205000"/>
            <a:ext cx="35640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KCl 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CaCl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 0,0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Agua desti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205000"/>
            <a:ext cx="5472360" cy="2494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AGITAR 30 SEGU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DEJAR REPOSAR 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MEDIR AGIT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Medida estable: en 5 seg no varía + de 0,02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96600" cy="6669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8000" y="2276640"/>
            <a:ext cx="4969080" cy="204372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SIN AGITACIÓN ELECTRODO EN SOBRENA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3280" y="5084640"/>
            <a:ext cx="1656000" cy="2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2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35280" y="2205000"/>
            <a:ext cx="4968720" cy="2043720"/>
          </a:xfrm>
          <a:prstGeom prst="rect">
            <a:avLst/>
          </a:prstGeom>
          <a:solidFill>
            <a:srgbClr val="d7d9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EDICIÓN SIN AGITACIÓN ELECTRODO EN DECA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571640" y="5805360"/>
            <a:ext cx="1655640" cy="2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LGUNAS REFL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64720" cy="384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enemos problemas con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consecuencias agronómica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en las medidas de pH que estamos hac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definir los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a utilizar dada la variabilidad existente y el conocimiento del efecto de los distintos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reveerse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a la brevedad la IRAM pH, incorporando el SAMLA más la vacancias detectadas en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5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evaluar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recisión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con muestras repetidas en el tiempo en forma ciega y no sobre la mism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parámetro 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se basa en la evaluación estadística de los resultados de los laboratorios participantes para la calificación de desempeño y esto no siempre coincide con la interpretación agronómica y cambia de ronda en ronda según la perfomance de los labo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mos tener en cuenta las 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cifras significativa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de los resultados según protocolos us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Thomas G.W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pH del suelo es probablemente la medida informativa más simple que puede ser hecha para determinar las características del s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1960" y="5734080"/>
            <a:ext cx="63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SSA Book Series 5, Chemical Methods, Bhigam J.M., 199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268280"/>
            <a:ext cx="7993080" cy="3776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es probable pero tenemos que ponernos de acuerdo en cómo hacerlo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8157960" cy="352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CIAS A ÉL TOMAMOS CONCIENCIA DE LOS PROBLEMAS DE NUESTROS LABORATORIOS Y ESTAMOS ANALIZANDO COMO SUPERAR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8366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I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2205000"/>
            <a:ext cx="8157960" cy="3529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¡¡¡GRACIAS A LOS QUE LO LLEVARON ADELANT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-45864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RACIAS POR LA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537372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78200" y="5229360"/>
            <a:ext cx="4465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Dra. Mabel Váz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FCAyF – UN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evazquez@agro.unlp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Download Laboratorio quimica (223Wx162H)"/>
          <p:cNvPicPr/>
          <p:nvPr/>
        </p:nvPicPr>
        <p:blipFill>
          <a:blip r:embed="rId1"/>
          <a:stretch/>
        </p:blipFill>
        <p:spPr>
          <a:xfrm>
            <a:off x="2050920" y="2178000"/>
            <a:ext cx="417672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ARIABLES QUE MODIFICAN LA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1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lación suelo-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extracto de pasta de saturación, 1:1; 1:2; 1:2,5; 1:5; 1: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653000"/>
            <a:ext cx="187164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653000"/>
            <a:ext cx="22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M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:2,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m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 mide con ag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4653000"/>
            <a:ext cx="3744720" cy="18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724280"/>
            <a:ext cx="324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RAM 29.410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 10.390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:5 V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iden en sobrenadante sin ag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8480" cy="5392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1476360" y="1341360"/>
            <a:ext cx="6624720" cy="388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1268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c á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162864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184464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133720"/>
            <a:ext cx="0" cy="790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2349360"/>
            <a:ext cx="0" cy="57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2637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78136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500280"/>
            <a:ext cx="39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&gt; di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disociación de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 las superficies coloid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Disociación de complejos del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852640"/>
            <a:ext cx="8136000" cy="178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AUMENTO DE pH NO ES PROPORCIONAL A LA DI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O VARÍA DE SUELO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58972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UELO: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50920" y="31680"/>
          <a:ext cx="525780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680"/>
                    <a:ext cx="525780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268280"/>
            <a:ext cx="8642160" cy="4842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&gt; DILUCIÓN &gt; p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 MUESTRAS CON  pH &gt;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n agitado o sin agitado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276640"/>
            <a:ext cx="8748720" cy="237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E &lt; 0,2 mSm/m (25ºC) y pH &gt; 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IRAM 21.322 Grado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KCl 1M                 disminuye e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0,01M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isminuye e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3068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4292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60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836640"/>
            <a:ext cx="475308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ipo de 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H actua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suelo: agua 1: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182880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876920"/>
            <a:ext cx="609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4876920"/>
            <a:ext cx="1067040" cy="510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6576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6019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5943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 Log (H</a:t>
            </a:r>
            <a:r>
              <a:rPr b="0" lang="en-US" sz="2400" spc="-1" strike="noStrike" baseline="30000">
                <a:solidFill>
                  <a:srgbClr val="80808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ción del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2:21:43Z</dcterms:created>
  <dc:creator>XP</dc:creator>
  <dc:description/>
  <dc:language>en-US</dc:language>
  <cp:lastModifiedBy>XP</cp:lastModifiedBy>
  <dcterms:modified xsi:type="dcterms:W3CDTF">2010-12-09T16:04:23Z</dcterms:modified>
  <cp:revision>168</cp:revision>
  <dc:subject/>
  <dc:title>Diapositiva 1</dc:title>
</cp:coreProperties>
</file>